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E975-FC02-4F67-A7AD-3027353E5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6BC5-B277-4EC6-9A4F-ABF57ACA3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0D82-3783-4F82-BD24-3C921243A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AB19-3490-418A-855B-B77BB455E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ABEC-FBBB-4187-904D-C403F6A09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1DD5-702E-4812-8E62-6881CEBCF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DC14-ECCC-4A49-8EE3-5F6F3E9F6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B7CB-CA1B-45ED-9CF3-7C07B5D33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A58B-311B-4830-98CA-EDA008C78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4BC4-60B5-4E4A-9C46-D064FCBC4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213D-B2C4-4666-96DA-3AA474212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3009-1980-4AF3-9484-EAAACBF01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3289D-6EBB-47C4-BE3E-9D325825EB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LMartin\AppData\Local\Microsoft\Windows\Temporary Internet Files\Content.IE5\HK95MZY4\MCPE07264_0000[1].wm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533520" y="184320"/>
            <a:ext cx="8153280" cy="6549840"/>
          </a:xfrm>
          <a:prstGeom prst="rect">
            <a:avLst/>
          </a:prstGeom>
          <a:ln w="0">
            <a:noFill/>
          </a:ln>
        </p:spPr>
      </p:pic>
      <p:sp>
        <p:nvSpPr>
          <p:cNvPr id="42" name="TextBox 1"/>
          <p:cNvSpPr/>
          <p:nvPr/>
        </p:nvSpPr>
        <p:spPr>
          <a:xfrm>
            <a:off x="457200" y="958680"/>
            <a:ext cx="82296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radley Hand ITC"/>
              </a:rPr>
              <a:t>Witness – </a:t>
            </a:r>
            <a:r>
              <a:rPr b="0" lang="en-US" sz="5400" spc="-1" strike="noStrike">
                <a:solidFill>
                  <a:srgbClr val="000000"/>
                </a:solidFill>
                <a:latin typeface="Bradley Hand ITC"/>
              </a:rPr>
              <a:t>person who has knowledge about a crim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radley Hand ITC"/>
              </a:rPr>
              <a:t>Sleuth – </a:t>
            </a:r>
            <a:r>
              <a:rPr b="0" lang="en-US" sz="5400" spc="-1" strike="noStrike">
                <a:solidFill>
                  <a:srgbClr val="000000"/>
                </a:solidFill>
                <a:latin typeface="Bradley Hand ITC"/>
              </a:rPr>
              <a:t>an investigator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Users\LMartin\AppData\Local\Microsoft\Windows\Temporary Internet Files\Content.IE5\1FJY86RW\MCj03184120000[1].wm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228600"/>
            <a:ext cx="8610480" cy="6477120"/>
          </a:xfrm>
          <a:prstGeom prst="rect">
            <a:avLst/>
          </a:prstGeom>
          <a:ln w="0">
            <a:noFill/>
          </a:ln>
        </p:spPr>
      </p:pic>
      <p:sp>
        <p:nvSpPr>
          <p:cNvPr id="44" name="TextBox 1"/>
          <p:cNvSpPr/>
          <p:nvPr/>
        </p:nvSpPr>
        <p:spPr>
          <a:xfrm>
            <a:off x="304920" y="228600"/>
            <a:ext cx="8610480" cy="78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Harrington"/>
              </a:rPr>
              <a:t>Clue – a fact or object that gives information toward solving the crime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Harrington"/>
              </a:rPr>
              <a:t>Red herring – a false clue that throws the investigator off track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Harrington"/>
              </a:rPr>
              <a:t>Hunch – a guess or feeling note based on facts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C:\Users\LMartin\AppData\Local\Microsoft\Windows\Temporary Internet Files\Content.IE5\HK95MZY4\MCj03656240000[1].wm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52280" y="131760"/>
            <a:ext cx="8763120" cy="6594480"/>
          </a:xfrm>
          <a:prstGeom prst="rect">
            <a:avLst/>
          </a:prstGeom>
          <a:ln w="0">
            <a:noFill/>
          </a:ln>
        </p:spPr>
      </p:pic>
      <p:sp>
        <p:nvSpPr>
          <p:cNvPr id="46" name="TextBox 3"/>
          <p:cNvSpPr/>
          <p:nvPr/>
        </p:nvSpPr>
        <p:spPr>
          <a:xfrm>
            <a:off x="152280" y="677880"/>
            <a:ext cx="8839440" cy="79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ladimir Script"/>
              </a:rPr>
              <a:t>Evidence – a thing or statement that helps to prove who committed the crim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ladimir Script"/>
              </a:rPr>
              <a:t>Breakthrough – a discovery that helps solve the crim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ladimir Script"/>
              </a:rPr>
              <a:t>Deduction – drawing a conclus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C:\Users\LMartin\AppData\Local\Microsoft\Windows\Temporary Internet Files\Content.IE5\HK95MZY4\MCj03002750000[2].wmf"/>
          <p:cNvPicPr/>
          <p:nvPr/>
        </p:nvPicPr>
        <p:blipFill>
          <a:blip r:embed="rId1"/>
          <a:stretch/>
        </p:blipFill>
        <p:spPr>
          <a:xfrm>
            <a:off x="304920" y="3581280"/>
            <a:ext cx="8665920" cy="3071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"/>
          <p:cNvSpPr/>
          <p:nvPr/>
        </p:nvSpPr>
        <p:spPr>
          <a:xfrm>
            <a:off x="228600" y="228600"/>
            <a:ext cx="86104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arlow Solid Italic"/>
              </a:rPr>
              <a:t>Alibi – an excuse that an accused person uses to show that he or she was not at the scene of the cri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arlow Solid Italic"/>
              </a:rPr>
              <a:t>Motive – a reason that a person does something it can include anger, hatred, love, or gre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2T00:37:23Z</dcterms:created>
  <dc:creator>Liana Martin</dc:creator>
  <dc:description/>
  <dc:language>en-US</dc:language>
  <cp:lastModifiedBy>Liana Martin</cp:lastModifiedBy>
  <dcterms:modified xsi:type="dcterms:W3CDTF">2009-04-03T00:08:19Z</dcterms:modified>
  <cp:revision>7</cp:revision>
  <dc:subject/>
  <dc:title>Slide 1</dc:title>
</cp:coreProperties>
</file>